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99D-1FDC-479A-8979-3F5730C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C29-CF4B-4C17-B3D8-BD2ED7AB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660-8530-408E-B853-77347E20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D08-AE30-4EEA-BA8A-20AF20E6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2B1-FE61-46C4-8EF5-AC75948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2C1-B51B-4DD9-9841-DAB2F854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1A7-A16D-439B-AAFE-612A48F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8BE-8648-4AE3-B0B2-7488D83F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88A-CF17-4405-8C43-BB0DDDC4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682-6C6E-4C5E-8C07-C0574DC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5EA-205C-435B-BA0D-C6A5CBD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1EC-DF79-4F6E-A48A-60780BA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1F5-F19E-46F1-BF19-86DF1810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0528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: a visual and graphic display that depicts the relationships between facts, terms, and or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32320" cy="2185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" name="Picture 4" descr="Graphic organizer: Network Tree"/>
          <p:cNvPicPr/>
          <p:nvPr/>
        </p:nvPicPr>
        <p:blipFill>
          <a:blip r:embed="rId2"/>
          <a:stretch/>
        </p:blipFill>
        <p:spPr>
          <a:xfrm>
            <a:off x="6400800" y="4114800"/>
            <a:ext cx="2533680" cy="19940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44" name="Rectangle 8" descr=""/>
          <p:cNvPicPr/>
          <p:nvPr/>
        </p:nvPicPr>
        <p:blipFill>
          <a:blip r:embed="rId3"/>
          <a:stretch/>
        </p:blipFill>
        <p:spPr>
          <a:xfrm>
            <a:off x="798480" y="176040"/>
            <a:ext cx="7199280" cy="1135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057400" y="3429000"/>
            <a:ext cx="39625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Graphic Organizers is a common way to help students generate visual representations of what they are learn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5257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first brainstorming and using a graphic organizer, the students were able to write a research paper with ease on the cause and effect of  WW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:\Documents and Settings\050bradfordv\Local Settings\Temporary Internet Files\Content.IE5\NDPFT0AI\MCj04298270000[1].wmf"/>
          <p:cNvPicPr/>
          <p:nvPr/>
        </p:nvPicPr>
        <p:blipFill>
          <a:blip r:embed="rId5"/>
          <a:stretch/>
        </p:blipFill>
        <p:spPr>
          <a:xfrm>
            <a:off x="304920" y="28954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47:33Z</dcterms:created>
  <dc:creator>RRISD</dc:creator>
  <dc:description/>
  <dc:language>en-US</dc:language>
  <cp:lastModifiedBy>RRISD</cp:lastModifiedBy>
  <dcterms:modified xsi:type="dcterms:W3CDTF">2009-03-12T18:48:36Z</dcterms:modified>
  <cp:revision>2</cp:revision>
  <dc:subject/>
  <dc:title>Definition:  Short for Picture Element, a pixel is a single point in a graphic image.  All digital images are composed of thousands or even millions of pixels. </dc:title>
</cp:coreProperties>
</file>